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304-F289-467B-97E1-FF8CE34C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810-41CA-402B-B182-62359853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C9D-05FE-494A-8039-640CDC84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2AF-9874-4576-A203-13CB4B89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D81C-4715-40AA-8026-05E494FE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3628-9311-4BEA-BE1F-D18D9568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710-A981-4D26-A809-B1CDAF6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5278-ABE9-4653-AAAB-2F342F06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BAEE-B98D-4350-83E9-DDC4DBF6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0729-1629-449F-99FB-C022104B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883-21D4-4361-84BF-66812AB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5E1-8E15-412E-B580-346CF510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C1B3-765B-4B96-8F21-CEFEC62A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9A3B-42AB-4716-ABF2-69630051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CB67-4864-4930-9A0A-AA020941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148A-0771-4EA2-8BB4-246D64B2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99C5-DADF-44B7-A65B-E928F325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3341-54FA-4071-AFBA-0B4628CD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8C3B-5B09-4FC3-AD18-D8CC62EB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D134-C5B5-4885-9359-F33515AE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9AA3-F82A-4B92-A514-B68976F1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78E19-0790-45F6-B4AC-4C150F1A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23F-537D-42A0-9BED-46824A1D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A6F7-8AFB-40FC-861B-1CDB0330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2FA0-7804-410E-A444-51B9CE1F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F379-323A-4573-9919-A2E4519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63338-8159-4385-86F5-79BB7C3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5E5F-95E8-47D0-8262-87ECD8CA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31B5-A960-4BD7-9706-680A7917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C87F-F544-4D02-A20E-7F8F5C38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040-3FCC-42FB-ABB2-24CF8BB1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5A5-C91E-4951-BD8F-B23489D3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671-9FAD-4BE0-8431-2C183FC9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DCB-FCFA-42B6-9C09-3EFF4773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A76-A9C3-4CEA-B7F2-D4DA83A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B9F-EA46-465B-AF99-788BBFE6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7A58-38B6-4CE1-9ED6-1B63DDDA2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0383-A776-472D-82FF-D7EDDF5563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72FB-ED9A-4B36-AE5E-A39BA4A1CB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comic"/>
              </a:rPr>
              <a:t>Uzbekist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556272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"/>
              </a:rPr>
              <a:t>Tyra Rob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"/>
              </a:rPr>
              <a:t>Elizabeth Ky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de Latin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de Latin"/>
              </a:rPr>
              <a:t>&lt;ancienthistory.about.com/oct/atlas/qt/climateuzbek.ht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de Latin"/>
              </a:rPr>
              <a:t>&lt;historyofcountriesoftheworld.com/uz-animals.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76320">
            <a:solidFill>
              <a:srgbClr val="000000"/>
            </a:solidFill>
            <a:prstDash val="dashDot"/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orte"/>
              </a:rPr>
              <a:t>Land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386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Location: Central Asia, North of Afghani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Slightly larger than Califo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Area: Total= 447,400 sq km ; Land: 425,400 sq km ; Water=22,000 sq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ff"/>
                </a:solidFill>
                <a:latin typeface="Forte"/>
              </a:rPr>
              <a:t>Land Cont…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Narrow"/>
              </a:rPr>
              <a:t>Natural Resources: Natural Gas, petroleum, coal, gold, uranium, silver, copper, lead, zinc, tungsten, and molybden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Narrow"/>
              </a:rPr>
              <a:t>Total Renewable Water resources: 72.2 cu km (200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Haettenschweiler"/>
              </a:rPr>
              <a:t>Climate</a:t>
            </a:r>
            <a:r>
              <a:rPr b="0" lang="en-US" sz="7200" spc="-1" strike="noStrike">
                <a:solidFill>
                  <a:srgbClr val="000000"/>
                </a:solidFill>
                <a:latin typeface="Haettenschweiler"/>
              </a:rPr>
              <a:t>/ </a:t>
            </a:r>
            <a:r>
              <a:rPr b="0" lang="en-US" sz="7200" spc="-1" strike="noStrike">
                <a:solidFill>
                  <a:srgbClr val="008000"/>
                </a:solidFill>
                <a:latin typeface="Haettenschweiler"/>
              </a:rPr>
              <a:t>Veget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aettenschweiler"/>
              </a:rPr>
              <a:t>Contin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aettenschweiler"/>
              </a:rPr>
              <a:t>Hot Summers (40</a:t>
            </a:r>
            <a:r>
              <a:rPr b="0" lang="en-US" sz="2800" spc="-1" strike="noStrike">
                <a:solidFill>
                  <a:srgbClr val="333399"/>
                </a:solidFill>
                <a:latin typeface="Haettenschweiler"/>
                <a:ea typeface="Arial"/>
              </a:rPr>
              <a:t>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aettenschweiler"/>
                <a:ea typeface="Arial"/>
              </a:rPr>
              <a:t>Cool Winters (-23°C to -40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aettenschweiler"/>
                <a:ea typeface="Arial"/>
              </a:rPr>
              <a:t>Arid, 100-200 millimeters of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ettenschweiler"/>
              </a:rPr>
              <a:t>85%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ettenschweiler"/>
              </a:rPr>
              <a:t>13%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ettenschweiler"/>
              </a:rPr>
              <a:t>Algae, Mushrooms, Anthropoda, Round Helmints, Protozoa, an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809880"/>
            <a:ext cx="556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267080"/>
            <a:ext cx="5562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aettenschweiler"/>
              </a:rPr>
              <a:t>Carnivores : Wild Cat, Tiger, Leopard, Cam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aettenschweiler"/>
              </a:rPr>
              <a:t>Bats: Long Fingered, Giant Hoct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aettenschweiler"/>
              </a:rPr>
              <a:t>Rodents: Little Ground Squirrel, M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Presidential Republic (Head of State and Head of Gover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Islam Abdugan Iyevich Karimov (March 24, 1990 – Pres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Population: 27,345,0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Life Expectancy: Male- 68 Female- 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comic"/>
              </a:rPr>
              <a:t>History </a:t>
            </a: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&amp; </a:t>
            </a:r>
            <a:r>
              <a:rPr b="1" lang="en-US" sz="4800" spc="-1" strike="noStrike">
                <a:solidFill>
                  <a:srgbClr val="ffff99"/>
                </a:solidFill>
                <a:latin typeface="Credit Valley"/>
              </a:rPr>
              <a:t>Current Ev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Once part of the Persi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Conquered by Alexander the Great in the 4</a:t>
            </a:r>
            <a:r>
              <a:rPr b="0" lang="en-US" sz="2400" spc="-1" strike="noStrike" baseline="30000">
                <a:solidFill>
                  <a:srgbClr val="99ccff"/>
                </a:solidFill>
                <a:latin typeface="comic"/>
              </a:rPr>
              <a:t>th</a:t>
            </a: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Territory was made into the Uzbek Republic in 19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became the independent Uzbekistan Soviet Socialist Republic in 1925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Credit Valle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redit Valley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Credit Valley"/>
              </a:rPr>
              <a:t>OBAMA ADMINISTRATION ADOPTING NEW VIEWS ON POSSIBLE SECURITY THREATS IN CENTRAL ASIA AND THE CAUCASUS</a:t>
            </a:r>
            <a:r>
              <a:rPr b="0" lang="en-US" sz="2400" spc="-1" strike="noStrike">
                <a:solidFill>
                  <a:srgbClr val="ffff99"/>
                </a:solidFill>
                <a:latin typeface="Credit Valley"/>
              </a:rPr>
              <a:t>”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Credit Valle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Wide Latin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Developed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Gold and Cotton are the maj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Currency: 1 Som (uzs) = 100 tiy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Age 15+ can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Literacy: total population 99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Male: 99.6% Female: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20563200">
            <a:off x="4419720" y="2286000"/>
            <a:ext cx="3128760" cy="2092320"/>
          </a:xfrm>
          <a:prstGeom prst="rect">
            <a:avLst/>
          </a:prstGeom>
          <a:ln w="57240">
            <a:solidFill>
              <a:srgbClr val="000000"/>
            </a:solidFill>
            <a:prstDash val="dash"/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urnstown Dam"/>
              </a:rPr>
              <a:t>Cultu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Clothing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: Long tunic shirt, pants and a coat. Neckline opening horizontal for men, vertical for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Food: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Breads, noodles, rice, meat, carrots, onions, soup (fatty meats and vegetables), Green Tea, and W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: Turkic (23.5 million speak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Religion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: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: Persian, Islamic, Russian, and Temu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rot="1065000">
            <a:off x="5943600" y="380880"/>
            <a:ext cx="2892600" cy="2386080"/>
          </a:xfrm>
          <a:prstGeom prst="rect">
            <a:avLst/>
          </a:prstGeom>
          <a:ln w="57240">
            <a:solidFill>
              <a:srgbClr val="000000"/>
            </a:solidFill>
            <a:prstDash val="dash"/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3295800" cy="2195280"/>
          </a:xfrm>
          <a:prstGeom prst="rect">
            <a:avLst/>
          </a:prstGeom>
          <a:ln w="5724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3048120" cy="2286000"/>
          </a:xfrm>
          <a:prstGeom prst="rect">
            <a:avLst/>
          </a:prstGeom>
          <a:ln w="76320">
            <a:solidFill>
              <a:srgbClr val="ffffff"/>
            </a:solidFill>
            <a:prstDash val="dash"/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95680" y="4114800"/>
            <a:ext cx="3448080" cy="2585880"/>
          </a:xfrm>
          <a:prstGeom prst="rect">
            <a:avLst/>
          </a:prstGeom>
          <a:ln w="76320">
            <a:solidFill>
              <a:srgbClr val="ffffff"/>
            </a:solidFill>
            <a:prstDash val="dash"/>
            <a:miter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4197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e3ebf1"/>
                </a:solidFill>
                <a:latin typeface="Script MT Bold"/>
              </a:rPr>
              <a:t>Places to Visi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Tashkent: largest city. Capital of Uzbekistan located in foot hills of the Tians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Bukhara: Capital of the Bukhara province.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Script MT Bol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 largest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Samarkand: City famous for its central location on the Asian Silk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191360" y="1600200"/>
            <a:ext cx="1952640" cy="2600280"/>
          </a:xfrm>
          <a:prstGeom prst="rect">
            <a:avLst/>
          </a:prstGeom>
          <a:ln w="5724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51:19Z</dcterms:created>
  <dc:creator>tyracrobinson</dc:creator>
  <dc:description/>
  <dc:language>en-US</dc:language>
  <cp:lastModifiedBy>tyracrobinson</cp:lastModifiedBy>
  <dcterms:modified xsi:type="dcterms:W3CDTF">2009-02-20T17:49:46Z</dcterms:modified>
  <cp:revision>12</cp:revision>
  <dc:subject/>
  <dc:title>Uzbekistan</dc:title>
</cp:coreProperties>
</file>